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FB6B8E-E96D-4BEF-9F74-4AC8604DB89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C2279D-0E33-41E3-80FB-DA4ADD19E6B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F5F408-301F-4C03-B641-B7F97264D28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02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963600"/>
            <a:ext cx="264924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58029-F305-4D31-85CC-9A985EB63E5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5B0110-D411-4B12-9F8C-0F031F45EA8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EDC034-3A70-4DDD-B5D8-B489DE180A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DE7B77-7E2B-43FA-AD5A-9BC0C36653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241CEE-AE5D-4922-9C61-A0F4D145F31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680"/>
            <a:ext cx="8228160" cy="5291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3B3C72-1CB1-4398-9F6F-4831DF140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659160-5F26-486E-82AB-048B8135A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9636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68B45-B462-4569-9BE6-C5307D12F2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0200"/>
            <a:ext cx="401508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3600"/>
            <a:ext cx="8228160" cy="2157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D577D2-9E84-4263-8E7A-5D86A0AFD5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7200" y="6245280"/>
            <a:ext cx="213192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3720" y="6245280"/>
            <a:ext cx="289404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  <a:tab algn="l" pos="2244600"/>
                <a:tab algn="l" pos="2695680"/>
              </a:tabLst>
            </a:pPr>
            <a:r>
              <a:rPr b="0" lang="zh-CN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447840"/>
                <a:tab algn="l" pos="898560"/>
                <a:tab algn="l" pos="1346040"/>
                <a:tab algn="l" pos="1797120"/>
              </a:tabLst>
            </a:pPr>
            <a:fld id="{8695178A-A9CC-4047-BEF9-7242D4AE50BF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6880" y="2130120"/>
            <a:ext cx="777564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</a:tabLst>
            </a:pPr>
            <a:endParaRPr b="0" lang="zh-CN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240" y="3887280"/>
            <a:ext cx="6404040" cy="1754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</a:tabLst>
            </a:pPr>
            <a:endParaRPr b="0" lang="zh-CN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1899-12-30T00:00:00Z</dcterms:created>
  <dc:creator/>
  <dc:description/>
  <dc:language>en-US</dc:language>
  <cp:lastModifiedBy>xxx</cp:lastModifiedBy>
  <dcterms:modified xsi:type="dcterms:W3CDTF">2018-11-27T00:50:35Z</dcterms:modified>
  <cp:revision>1</cp:revision>
  <dc:subject/>
  <dc:title/>
</cp:coreProperties>
</file>